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FC2-2FAB-4DF8-8971-48D7C8C1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7E5-26CD-4568-A2A1-E50FDF63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774-3659-44C8-9C2D-31F52DB8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CD0-B46E-45B9-B651-75336ADF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51D-6ADA-4CE6-BCA6-F8D0F54E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EF6-E68F-444E-9193-FB062981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E9A-F5E1-4110-8A3F-1554CBAB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CE8-0F8D-40FB-B7E1-537A0233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C9F-7121-4C68-A3F9-4B8E0DCE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679-5E30-4B8A-A718-FC953F76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B70-1B25-4E41-BAB3-D500EC7E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555-15A6-42FF-9EBC-0CF501D3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6B39-5F93-4B52-A022-895128C363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1E937B-5576-4141-B205-3C73236ACB6D}" type="datetime12">
              <a:rPr b="0" lang="en-US" sz="1400" spc="-1" strike="noStrike">
                <a:solidFill>
                  <a:srgbClr val="000000"/>
                </a:solidFill>
                <a:latin typeface="Arial"/>
              </a:rPr>
              <a:t>09:35 A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6C45-62D4-4EDA-962F-A938D8274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9051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Chemistry Test 10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5A6-8AA1-49F3-B97A-54439A8855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onic Equ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ink about your PPT la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on’t forget charges (oxidation states) and your (aq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9F2-A0EA-42F8-9F7B-E6586B846E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Electroly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Dissoci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More dissociation = more 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More ions = stronger electroly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Better conductors of electri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324-E790-4538-841B-34714399E6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Electroly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trong electroly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eak electroly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onelectrolytes (sugars such as glucose and sucros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758-620E-4A37-9B08-1363C3ADED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oles of 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f you have one mole of NaCl, how many moles of Na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will be produced when NaCl is dissolved in wate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28B-B2FC-4CB5-A40A-9852ACD5E4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olligative 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apor pressure lower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oiling point elev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reezing point depres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smotic pressure (not in the book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F4D-31B0-49D9-B9AF-603A831B70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olligative 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se properties are dependent on the number of solute particles present in solution, not their ident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BAA-EC74-4194-BDF9-C607460AAD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olligative 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re particles = more change of the colligative proper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onelectrolytes have the least impact on these proper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08B-088A-4B3D-AE0C-C6E409481D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olligative 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Molality is u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Δ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T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b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 = K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b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 * 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m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 * 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For water: K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b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=  0.512 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  <a:ea typeface="Times New Roman"/>
              </a:rPr>
              <a:t>o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C/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Δ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T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f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 = K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f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 * 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m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 * 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For water: K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f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=  -1.86 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  <a:ea typeface="Times New Roman"/>
              </a:rPr>
              <a:t>o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C/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Use a negative sig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9A2-1387-4456-9CD4-407A74C9B0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olligative 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 aware of what is being asked… Are you solving for the final temperature or how much of change is taking pl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431-5B10-4655-A5F3-F6E36321DA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Dilu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M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Used to make solutions like the la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member the example in clas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E3B-B151-4E8E-BE80-12F985CE39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Tes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42 multiple cho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ach question holds the equal weight (1 p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rite-on answ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4 problems, 2 ionic e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ne “essa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499-8B01-494E-B319-CFEB3E6878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Last Un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ake sure to review your notes and review sheet from Test 9.  Many multiple choice questions are repeats from the last tes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A8C-7918-4EAD-AB09-C54C5592CB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Final Word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inish all worksheets, staple th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 ready to go at start of class (seated with calculato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et your point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776-E6B2-4A37-831F-BA7252E1C4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commend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Don’t just copy the W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Study how to answer the questions, don’t memor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Give yourself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Plan your testing time wise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350-D34D-4403-9E9D-3980C5975C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oncentr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easure of solu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ar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a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% Concentr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ADB-7AED-4ADB-AE29-0ECCF453D5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ola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es solute / liters of solu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 = mol / 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DBB-388F-4B9D-BF61-1056EC914C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ol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es solute / kg of solv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mol / k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Used for colligative proper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C54-5FB9-4569-9AE9-2B16DEA730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% Concentr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y mass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(Mass of solute / mass of solution) x 10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B9E-6524-4722-AE91-BB62962781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onic Equ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Used to show the ions involved in double replacement (PPT) rx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Use table on Page 920 to determine solubiliti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529-6E97-499C-9875-3A4488953F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onic Equ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irst write the balanced equation (use stat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n separate into ions (complete/overall) ionic equ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inish with net ion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392-44C8-4EA1-98FF-017195A11A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9:11:04Z</dcterms:created>
  <dc:creator>CFISD</dc:creator>
  <dc:description/>
  <dc:language>en-US</dc:language>
  <cp:lastModifiedBy>CFISD</cp:lastModifiedBy>
  <dcterms:modified xsi:type="dcterms:W3CDTF">2009-03-02T15:37:02Z</dcterms:modified>
  <cp:revision>65</cp:revision>
  <dc:subject/>
  <dc:title>Slide 1</dc:title>
</cp:coreProperties>
</file>